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EC6-63CF-419E-A64F-BFF3F187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3DB-9071-4007-B1B9-3125F258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43C-07DF-4A06-9A77-C8415E55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65B-8100-4DC6-BE03-21C67913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9130-8930-47F4-8631-F373BCF5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A1F-4BA2-4AEC-BA9F-A5EAAFDB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BA8-3879-42D5-931E-19C3972A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4BA-3BB8-4D1F-AF48-32D59343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654-6944-4192-8CAC-70B1AD33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B4A-2115-4432-8B74-1776DE11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8D6-586D-456B-A7DE-C70B2306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AAA-0996-4927-B108-276DCF77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898C-D49A-4639-BD7B-4AF8CCE3D22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80 K výšinám, k výšin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výšinám, k výši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nám cestu ukáz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voj život za nás da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výšinám, vedie P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ľud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ážny hlas znie tu za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sú časné star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oti večnej radosti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ážny hlas znie tu zas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je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diaľke tam žiari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čný prístav, cesty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emu vedie Spasite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diaľke tam žiari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, Pá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6-11T15:30:46Z</dcterms:modified>
  <cp:revision>22</cp:revision>
  <dc:subject/>
  <dc:title>Je veľký náš Pán, on slávy je Kráľ Nech do všetkých strán  spev vrúcnych znie chvál.</dc:title>
</cp:coreProperties>
</file>